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1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7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6.png" ContentType="image/png"/>
  <Override PartName="/ppt/media/image11.png" ContentType="image/png"/>
  <Override PartName="/ppt/media/image48.png" ContentType="image/png"/>
  <Override PartName="/ppt/media/image13.png" ContentType="image/png"/>
  <Override PartName="/ppt/media/image36.png" ContentType="image/png"/>
  <Override PartName="/ppt/media/image40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8.png" ContentType="image/png"/>
  <Override PartName="/ppt/media/image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</p:sldMasterIdLst>
  <p:notesMasterIdLst>
    <p:notesMasterId r:id="rId34"/>
  </p:notesMasterIdLst>
  <p:sldIdLst>
    <p:sldId id="256" r:id="rId35"/>
    <p:sldId id="257" r:id="rId36"/>
    <p:sldId id="258" r:id="rId37"/>
    <p:sldId id="259" r:id="rId38"/>
    <p:sldId id="260" r:id="rId39"/>
    <p:sldId id="261" r:id="rId40"/>
    <p:sldId id="262" r:id="rId41"/>
    <p:sldId id="263" r:id="rId42"/>
    <p:sldId id="264" r:id="rId43"/>
    <p:sldId id="265" r:id="rId44"/>
    <p:sldId id="266" r:id="rId45"/>
    <p:sldId id="267" r:id="rId46"/>
    <p:sldId id="268" r:id="rId47"/>
    <p:sldId id="269" r:id="rId48"/>
    <p:sldId id="270" r:id="rId49"/>
    <p:sldId id="271" r:id="rId50"/>
    <p:sldId id="272" r:id="rId51"/>
    <p:sldId id="273" r:id="rId52"/>
    <p:sldId id="274" r:id="rId53"/>
    <p:sldId id="275" r:id="rId54"/>
    <p:sldId id="276" r:id="rId55"/>
    <p:sldId id="277" r:id="rId56"/>
    <p:sldId id="278" r:id="rId57"/>
    <p:sldId id="279" r:id="rId5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notesMaster" Target="notesMasters/notesMaster1.xml"/><Relationship Id="rId35" Type="http://schemas.openxmlformats.org/officeDocument/2006/relationships/slide" Target="slides/slide1.xml"/><Relationship Id="rId36" Type="http://schemas.openxmlformats.org/officeDocument/2006/relationships/slide" Target="slides/slide2.xml"/><Relationship Id="rId37" Type="http://schemas.openxmlformats.org/officeDocument/2006/relationships/slide" Target="slides/slide3.xml"/><Relationship Id="rId38" Type="http://schemas.openxmlformats.org/officeDocument/2006/relationships/slide" Target="slides/slide4.xml"/><Relationship Id="rId39" Type="http://schemas.openxmlformats.org/officeDocument/2006/relationships/slide" Target="slides/slide5.xml"/><Relationship Id="rId40" Type="http://schemas.openxmlformats.org/officeDocument/2006/relationships/slide" Target="slides/slide6.xml"/><Relationship Id="rId41" Type="http://schemas.openxmlformats.org/officeDocument/2006/relationships/slide" Target="slides/slide7.xml"/><Relationship Id="rId42" Type="http://schemas.openxmlformats.org/officeDocument/2006/relationships/slide" Target="slides/slide8.xml"/><Relationship Id="rId43" Type="http://schemas.openxmlformats.org/officeDocument/2006/relationships/slide" Target="slides/slide9.xml"/><Relationship Id="rId44" Type="http://schemas.openxmlformats.org/officeDocument/2006/relationships/slide" Target="slides/slide10.xml"/><Relationship Id="rId45" Type="http://schemas.openxmlformats.org/officeDocument/2006/relationships/slide" Target="slides/slide11.xml"/><Relationship Id="rId46" Type="http://schemas.openxmlformats.org/officeDocument/2006/relationships/slide" Target="slides/slide12.xml"/><Relationship Id="rId47" Type="http://schemas.openxmlformats.org/officeDocument/2006/relationships/slide" Target="slides/slide13.xml"/><Relationship Id="rId48" Type="http://schemas.openxmlformats.org/officeDocument/2006/relationships/slide" Target="slides/slide14.xml"/><Relationship Id="rId49" Type="http://schemas.openxmlformats.org/officeDocument/2006/relationships/slide" Target="slides/slide15.xml"/><Relationship Id="rId50" Type="http://schemas.openxmlformats.org/officeDocument/2006/relationships/slide" Target="slides/slide16.xml"/><Relationship Id="rId51" Type="http://schemas.openxmlformats.org/officeDocument/2006/relationships/slide" Target="slides/slide17.xml"/><Relationship Id="rId52" Type="http://schemas.openxmlformats.org/officeDocument/2006/relationships/slide" Target="slides/slide18.xml"/><Relationship Id="rId53" Type="http://schemas.openxmlformats.org/officeDocument/2006/relationships/slide" Target="slides/slide19.xml"/><Relationship Id="rId54" Type="http://schemas.openxmlformats.org/officeDocument/2006/relationships/slide" Target="slides/slide20.xml"/><Relationship Id="rId55" Type="http://schemas.openxmlformats.org/officeDocument/2006/relationships/slide" Target="slides/slide21.xml"/><Relationship Id="rId56" Type="http://schemas.openxmlformats.org/officeDocument/2006/relationships/slide" Target="slides/slide22.xml"/><Relationship Id="rId57" Type="http://schemas.openxmlformats.org/officeDocument/2006/relationships/slide" Target="slides/slide23.xml"/><Relationship Id="rId58" Type="http://schemas.openxmlformats.org/officeDocument/2006/relationships/slide" Target="slides/slide24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5"/>
          <p:cNvSpPr>
            <a:spLocks noGrp="1"/>
          </p:cNvSpPr>
          <p:nvPr>
            <p:ph type="ftr" idx="1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PlaceHolder 6"/>
          <p:cNvSpPr>
            <a:spLocks noGrp="1"/>
          </p:cNvSpPr>
          <p:nvPr>
            <p:ph type="sldNum" idx="1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8F080-A5FF-4E4B-9D3D-FF42DF0142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47754-FBC2-4377-A535-63CD34818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6A4AE-BDED-469B-8525-8AC11B892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C1231-6A81-4292-A453-829B4C995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4E4C6-4470-4CB3-B73F-F750189D1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4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13BF4-2206-47B0-8E52-C791B6A385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68413-D813-48E2-83BE-AC6388A26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D8320-E5D9-4930-9AAF-235A55E4A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8B77B-79C1-4D1D-9416-2DAD8F668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80BA4-09C7-4785-B3C6-730DD44E8D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6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ED894-998D-492E-AD85-249D12BF47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DF048-9A1A-4AC1-846F-6A4E52628D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46A6D-76D7-4E89-AE41-F69F641950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B71A2-6C5A-438A-88F9-00750A5CF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B3250-C314-4296-A4E6-7651311D5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BC403-6268-4410-9957-CBC3D2CF9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7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CE819-70F1-457D-9DFE-0690396DE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8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19425-57EE-468A-9E6A-EC85F2C2EA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8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45CCE-0BAF-4E0A-BC09-D5325C45F9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2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BDCEA-209B-4A2B-8897-7DE5E2AA7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2D25C-036E-46AF-8989-342846525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C011E-7346-42D8-A834-5429CE86B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3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F3B6E-AFE5-4F76-BBB4-EA0C53A345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3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74A65-20CB-4309-96D7-FB390DF21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6A42C-EDE4-4264-9C51-F58195A93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6E7DA-B1AE-4121-A11D-6379F244A8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08CD7-8287-4820-B699-21AA9200CEA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8AE3E-70F2-4F68-9493-ADB99D3DF25B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29B2C-0F8E-42E8-A881-73C43F28AB36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8CA00-17AF-4E2F-A6A8-7A8CEF08C46A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75E4A-E6C2-4BFB-8AB3-C7F56027E92F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A1CFB-3211-49D8-B87B-D1621A7C18E1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AC516-3778-4F5D-8233-DBF5F5294755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35E96-8098-4A0E-8C33-7157B0A11A33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A3221-D60D-4AAD-B879-6A12AB74616A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A02A3-73BF-4C1D-9C34-BA2E5F481670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25D5E-DBE4-42E2-86BA-DA87469EA3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439E0-893A-4468-B56E-D3D375615CD5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CD5EF-A55B-4310-A8C6-CFB1543BB521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937EE-C72B-4377-8951-D0FB5E59C9D8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132BD-300E-4F87-B52E-5B338A8506D4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2A2EF-EA71-4DB8-8218-9FC3F7282110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9E1E-7E2A-4D88-9852-DAEA506861C5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BDF9-6743-4851-A38E-26DF31D7CBD1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9D84-4073-4385-A6D4-6AEABEB33CDF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2672-06D3-4626-9063-6849964710FD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4F85-FA17-4D3B-AEAC-AFD946464190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DD4ED-E747-48D5-BE90-CB16EBF3BCF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DE99-4ABA-4B21-80AA-54E8DD2483EF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74B8-4409-46C6-B4C6-8A8C2113F48C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72E1-0CBC-4969-A20F-E157DC0E844B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CCE1-34E5-408A-A440-B77A2F28B7A9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04C0-B2F6-409A-90A1-707DEFA0D866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1253-E9BA-4AC4-BAD0-BBDFFC1022C7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D58C-D5F2-4110-9DDC-25B4FB941782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CD56D-89DB-421C-8154-61991A952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5E6FB2-D3BF-4EF0-A4AB-2C7EE66B8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E4952-52FE-4B33-85BF-8D0C6C21B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0B1FA-4D39-4BDA-B6F6-9DF3083A7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EB8DD2-4591-4C19-ADED-34F88F829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095E67-13C4-4AB7-B2B4-CC3EDF37D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D8B3EA-211E-4858-846A-F4D4ED7C9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AB89A-2FB9-431A-98CB-8E40A54A2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B852A-6E94-44B7-A7FE-F6E921763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DDEA0-5988-4DEB-BDBC-4A6CC7668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5A1BE-3165-4ACE-B9B8-5490651E6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67B79D-7F28-4AF1-A983-1CDBB9051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C1934-0CE0-4E24-983F-ED129FFD2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BC0498-394F-48AB-A322-B706BD88F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91A33-1EFE-48F1-AB67-FB76649A9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BAB38-1F57-4DAE-BA23-A89D95C7C13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2BF6F-DBF9-4B9D-85E3-DFA73CB8C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E9F07-3AD5-4969-A0D9-1386F442E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0A49E-25D0-411D-BD90-E11B810FB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253E2-4023-47AF-94E3-08D167F30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994CA-14DB-4F6F-87DF-6CDB2EFE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2EE7A-4DA2-43A9-9780-9B0AF975E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468E7-B218-481A-B223-D097AF90F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0FF5B-1AF8-4BE2-87C7-9307BA618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9D367-0159-4147-B56D-A52B75649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29E4D-C752-4FE2-B399-FBD28E134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0A349-1786-420B-A2A2-D8245617631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19AC4-03D6-4E75-8000-9D42A0822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BCC1E-7AA3-4B69-B232-3A2410B21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07A70-F9F2-4D34-B36C-F2334F49A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1A1E6-03CF-4277-8F29-5180F1359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8D267-F14C-48D9-ACF2-609E5666A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7538D-EEA2-4A42-A488-B424E011A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EECDF-6AC6-4415-AFDC-2EDC91BB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D690F-52CB-4A29-A44F-3BE29BF43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6A766-96C3-4906-B920-44C5EBBE2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00F34-B764-463E-8183-2AB525FE1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AF127-47DD-4500-9DE7-A707C540890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B6F2D-0D45-4F81-A380-66F37AD9F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1D969-E800-4DAB-9F5F-CBF9A6F71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596B4-45B1-4BD0-8441-9222E472B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BC4A3-BBE4-4F78-BB69-08FC9648B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31708-F1AB-4434-BAB7-12BB0548D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743D9-D669-4A12-B1DF-8463DEBC1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31BFF-A1C7-4C06-A8AE-BC7C74EC6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F95FA-D80E-4C4F-9502-94A2AE15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17BCA-DDB4-4063-8B73-EE2010EBD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D46D1-A56A-42B9-87A3-0FF829A4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4299B-8B25-4399-B1CC-56F82DB6D73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08837-9FFE-4CE7-AD07-9D6815CA5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1039E-8889-4458-84E8-B8A8061DD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AE616-751B-45A6-BAEF-28917ABBB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6AB50-B8AC-48E4-83C8-B99C93FD2DC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859DB-0C81-47F7-B77C-6E2C7E97CA38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3.xml"/><Relationship Id="rId5" Type="http://schemas.openxmlformats.org/officeDocument/2006/relationships/slideLayout" Target="../slideLayouts/slideLayout374.xml"/><Relationship Id="rId6" Type="http://schemas.openxmlformats.org/officeDocument/2006/relationships/slideLayout" Target="../slideLayouts/slideLayout375.xml"/><Relationship Id="rId7" Type="http://schemas.openxmlformats.org/officeDocument/2006/relationships/slideLayout" Target="../slideLayouts/slideLayout376.xml"/><Relationship Id="rId8" Type="http://schemas.openxmlformats.org/officeDocument/2006/relationships/slideLayout" Target="../slideLayouts/slideLayout377.xml"/><Relationship Id="rId9" Type="http://schemas.openxmlformats.org/officeDocument/2006/relationships/slideLayout" Target="../slideLayouts/slideLayout378.xml"/><Relationship Id="rId10" Type="http://schemas.openxmlformats.org/officeDocument/2006/relationships/slideLayout" Target="../slideLayouts/slideLayout379.xml"/><Relationship Id="rId11" Type="http://schemas.openxmlformats.org/officeDocument/2006/relationships/slideLayout" Target="../slideLayouts/slideLayout380.xml"/><Relationship Id="rId12" Type="http://schemas.openxmlformats.org/officeDocument/2006/relationships/slideLayout" Target="../slideLayouts/slideLayout381.xml"/><Relationship Id="rId13" Type="http://schemas.openxmlformats.org/officeDocument/2006/relationships/slideLayout" Target="../slideLayouts/slideLayout382.xml"/><Relationship Id="rId14" Type="http://schemas.openxmlformats.org/officeDocument/2006/relationships/slideLayout" Target="../slideLayouts/slideLayout383.xml"/><Relationship Id="rId15" Type="http://schemas.openxmlformats.org/officeDocument/2006/relationships/slideLayout" Target="../slideLayouts/slideLayout384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2042A-498C-4608-9D9C-9D4AC3C5FB6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02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04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46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48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9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9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3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3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36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78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0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1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622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24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666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68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9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71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1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3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75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56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798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00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ight Triangle 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6fa600"/>
              </a:gs>
              <a:gs pos="50000">
                <a:srgbClr val="abea3c"/>
              </a:gs>
              <a:gs pos="100000">
                <a:srgbClr val="6fa600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Group 10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7" name="Freef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d9d9d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Freeform 16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fea0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Freef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0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2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3" name="Picture 2" descr=""/>
          <p:cNvPicPr/>
          <p:nvPr/>
        </p:nvPicPr>
        <p:blipFill>
          <a:blip r:embed="rId4"/>
          <a:stretch/>
        </p:blipFill>
        <p:spPr>
          <a:xfrm>
            <a:off x="228600" y="5197320"/>
            <a:ext cx="1143000" cy="15145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59B47-207F-409B-A2AD-B17E0FFCA17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1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842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44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886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88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9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3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3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3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7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76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018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20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1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062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64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106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08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9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15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5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3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19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96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238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40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83779-4843-4A5E-9844-097E7771BC6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1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282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84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326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28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9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37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7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E77FD-70F4-4356-BD8F-49318A89FBC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4"/>
    <p:sldLayoutId id="2147484053" r:id="rId5"/>
    <p:sldLayoutId id="2147484054" r:id="rId6"/>
    <p:sldLayoutId id="2147484055" r:id="rId7"/>
    <p:sldLayoutId id="2147484056" r:id="rId8"/>
    <p:sldLayoutId id="2147484057" r:id="rId9"/>
    <p:sldLayoutId id="2147484058" r:id="rId10"/>
    <p:sldLayoutId id="2147484059" r:id="rId11"/>
    <p:sldLayoutId id="2147484060" r:id="rId12"/>
    <p:sldLayoutId id="2147484061" r:id="rId13"/>
    <p:sldLayoutId id="2147484062" r:id="rId14"/>
    <p:sldLayoutId id="2147484063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5"/>
          </p:nvPr>
        </p:nvSpPr>
        <p:spPr>
          <a:xfrm>
            <a:off x="5638680" y="6408720"/>
            <a:ext cx="2997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474AA-AF75-42C7-9645-90584F3B8D8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76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8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5638680" y="6408720"/>
            <a:ext cx="2997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AFC77-EC11-4612-A3C9-8861785EB03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2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1"/>
          </p:nvPr>
        </p:nvSpPr>
        <p:spPr>
          <a:xfrm>
            <a:off x="5638680" y="6408720"/>
            <a:ext cx="2997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88112-117A-42E5-8E6F-E3E75377D88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7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1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6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58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0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373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1" name="Rectangle 7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8083440" cy="2200320"/>
          </a:xfrm>
          <a:prstGeom prst="rect">
            <a:avLst/>
          </a:prstGeom>
          <a:ln w="0">
            <a:noFill/>
          </a:ln>
        </p:spPr>
      </p:pic>
      <p:sp>
        <p:nvSpPr>
          <p:cNvPr id="1422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e3d2d"/>
                </a:solidFill>
                <a:latin typeface="Lucida Sans Unicode"/>
              </a:rPr>
              <a:t>201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8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46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emporary holding account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racks checks and credit card receipts before they are deposited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wo choices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90720" indent="-266760">
              <a:spcBef>
                <a:spcPts val="326"/>
              </a:spcBef>
              <a:buClr>
                <a:srgbClr val="94c600"/>
              </a:buClr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Group with other Undeposited Funds (default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90720" indent="-266760">
              <a:spcBef>
                <a:spcPts val="326"/>
              </a:spcBef>
              <a:buClr>
                <a:srgbClr val="94c600"/>
              </a:buClr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eposit to bank account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Group with other Undeposited Funds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is bes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90720" indent="-26676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Makes reconciliation of bank accounts easie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Rectangle 6"/>
          <p:cNvSpPr/>
          <p:nvPr/>
        </p:nvSpPr>
        <p:spPr>
          <a:xfrm>
            <a:off x="0" y="18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1" name="Object 5"/>
          <p:cNvGraphicFramePr/>
          <p:nvPr/>
        </p:nvGraphicFramePr>
        <p:xfrm>
          <a:off x="1638360" y="1600200"/>
          <a:ext cx="5867280" cy="44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8360" y="1600200"/>
                    <a:ext cx="5867280" cy="4429080"/>
                  </a:xfrm>
                  <a:prstGeom prst="rect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3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474" name=""/>
          <p:cNvSpPr txBox="1"/>
          <p:nvPr/>
        </p:nvSpPr>
        <p:spPr>
          <a:xfrm>
            <a:off x="457200" y="1676520"/>
            <a:ext cx="3124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e Invoices to record sales to your credit custom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475" name="Picture 4" descr="C:\Users\DPEMBR~1\AppData\Local\Temp\SNAGHTML141218d6.PNG"/>
          <p:cNvPicPr/>
          <p:nvPr/>
        </p:nvPicPr>
        <p:blipFill>
          <a:blip r:embed="rId2"/>
          <a:stretch/>
        </p:blipFill>
        <p:spPr>
          <a:xfrm>
            <a:off x="3657600" y="1496880"/>
            <a:ext cx="5219640" cy="38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6" name="Rectangle 2" descr=""/>
          <p:cNvPicPr/>
          <p:nvPr/>
        </p:nvPicPr>
        <p:blipFill>
          <a:blip r:embed="rId1"/>
          <a:stretch/>
        </p:blipFill>
        <p:spPr>
          <a:xfrm>
            <a:off x="237960" y="146160"/>
            <a:ext cx="8448840" cy="1573200"/>
          </a:xfrm>
          <a:prstGeom prst="rect">
            <a:avLst/>
          </a:prstGeom>
          <a:ln w="0">
            <a:noFill/>
          </a:ln>
        </p:spPr>
      </p:pic>
      <p:sp>
        <p:nvSpPr>
          <p:cNvPr id="147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ceiving Payments by Check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andling Partial Payment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ceiving Payments by Credit Card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ere Do the Payments Go?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eferences for Applying Payments and Automatically Calculate Payment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cording Customer Discounts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8" name="Rectangle 2" descr=""/>
          <p:cNvPicPr/>
          <p:nvPr/>
        </p:nvPicPr>
        <p:blipFill>
          <a:blip r:embed="rId1"/>
          <a:stretch/>
        </p:blipFill>
        <p:spPr>
          <a:xfrm>
            <a:off x="208080" y="274680"/>
            <a:ext cx="8478720" cy="1230120"/>
          </a:xfrm>
          <a:prstGeom prst="rect">
            <a:avLst/>
          </a:prstGeom>
          <a:ln w="0">
            <a:noFill/>
          </a:ln>
        </p:spPr>
      </p:pic>
      <p:sp>
        <p:nvSpPr>
          <p:cNvPr id="1479" name=""/>
          <p:cNvSpPr txBox="1"/>
          <p:nvPr/>
        </p:nvSpPr>
        <p:spPr>
          <a:xfrm>
            <a:off x="456840" y="167652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lect the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Customer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menu, and then select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Receive Paymen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480" name="Picture 4" descr="C:\Users\DPEMBR~1\AppData\Local\Temp\SNAGHTML145fdfdd.PNG"/>
          <p:cNvPicPr/>
          <p:nvPr/>
        </p:nvPicPr>
        <p:blipFill>
          <a:blip r:embed="rId2"/>
          <a:stretch/>
        </p:blipFill>
        <p:spPr>
          <a:xfrm>
            <a:off x="3886200" y="1600200"/>
            <a:ext cx="4876920" cy="38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1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4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wo opt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Leave the invoice open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Write off the unpaid amoun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483" name="Picture 5" descr=""/>
          <p:cNvPicPr/>
          <p:nvPr/>
        </p:nvPicPr>
        <p:blipFill>
          <a:blip r:embed="rId2"/>
          <a:stretch/>
        </p:blipFill>
        <p:spPr>
          <a:xfrm>
            <a:off x="1273320" y="3276720"/>
            <a:ext cx="6597360" cy="3047760"/>
          </a:xfrm>
          <a:prstGeom prst="rect">
            <a:avLst/>
          </a:prstGeom>
          <a:ln w="0">
            <a:noFill/>
          </a:ln>
        </p:spPr>
      </p:pic>
      <p:sp>
        <p:nvSpPr>
          <p:cNvPr id="1484" name="Rectangle 8"/>
          <p:cNvSpPr/>
          <p:nvPr/>
        </p:nvSpPr>
        <p:spPr>
          <a:xfrm>
            <a:off x="1066680" y="4724280"/>
            <a:ext cx="3353040" cy="1447920"/>
          </a:xfrm>
          <a:prstGeom prst="rect">
            <a:avLst/>
          </a:prstGeom>
          <a:noFill/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5" name="Rectangle 2" descr=""/>
          <p:cNvPicPr/>
          <p:nvPr/>
        </p:nvPicPr>
        <p:blipFill>
          <a:blip r:embed="rId1"/>
          <a:stretch/>
        </p:blipFill>
        <p:spPr>
          <a:xfrm>
            <a:off x="237960" y="274680"/>
            <a:ext cx="8448840" cy="1170000"/>
          </a:xfrm>
          <a:prstGeom prst="rect">
            <a:avLst/>
          </a:prstGeom>
          <a:ln w="0">
            <a:noFill/>
          </a:ln>
        </p:spPr>
      </p:pic>
      <p:sp>
        <p:nvSpPr>
          <p:cNvPr id="14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lect the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Customer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menu, and then select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Receive Paymen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nter data into the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Received From, Amount,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d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Dat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field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r Pmt. Method, enter the Credit Card payment method, credit card number and Exp da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7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4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ndeposited Fund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Unless you turned off “Use Undeposited Funds as a default deposit to account” preferenc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QuickBooks does not increase your bank balance when you receive paymen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 have payments show up in your bank account, you must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Make Deposits.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9" name="Picture 8" descr="C:\Users\DPEMBR~1\AppData\Local\Temp\SNAGHTML146448ae.PNG"/>
          <p:cNvPicPr/>
          <p:nvPr/>
        </p:nvPicPr>
        <p:blipFill>
          <a:blip r:embed="rId1"/>
          <a:stretch/>
        </p:blipFill>
        <p:spPr>
          <a:xfrm>
            <a:off x="4595760" y="2449440"/>
            <a:ext cx="4372200" cy="2992680"/>
          </a:xfrm>
          <a:prstGeom prst="rect">
            <a:avLst/>
          </a:prstGeom>
          <a:ln w="0">
            <a:noFill/>
          </a:ln>
        </p:spPr>
      </p:pic>
      <p:pic>
        <p:nvPicPr>
          <p:cNvPr id="1490" name="Rectangle 2" descr=""/>
          <p:cNvPicPr/>
          <p:nvPr/>
        </p:nvPicPr>
        <p:blipFill>
          <a:blip r:embed="rId2"/>
          <a:stretch/>
        </p:blipFill>
        <p:spPr>
          <a:xfrm>
            <a:off x="274680" y="219240"/>
            <a:ext cx="8412120" cy="1401480"/>
          </a:xfrm>
          <a:prstGeom prst="rect">
            <a:avLst/>
          </a:prstGeom>
          <a:ln w="0">
            <a:noFill/>
          </a:ln>
        </p:spPr>
      </p:pic>
      <p:sp>
        <p:nvSpPr>
          <p:cNvPr id="1491" name=""/>
          <p:cNvSpPr txBox="1"/>
          <p:nvPr/>
        </p:nvSpPr>
        <p:spPr>
          <a:xfrm>
            <a:off x="456840" y="1676160"/>
            <a:ext cx="3886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utomatically Apply Payments setting in Payments Company Preferences allows QuickBooks to match the payment with invoices automatically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2" name="Rectangle 11"/>
          <p:cNvSpPr/>
          <p:nvPr/>
        </p:nvSpPr>
        <p:spPr>
          <a:xfrm>
            <a:off x="5506920" y="2743200"/>
            <a:ext cx="28958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Line 13"/>
          <p:cNvSpPr/>
          <p:nvPr/>
        </p:nvSpPr>
        <p:spPr>
          <a:xfrm flipH="1">
            <a:off x="4057560" y="2743200"/>
            <a:ext cx="144936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Line 14"/>
          <p:cNvSpPr/>
          <p:nvPr/>
        </p:nvSpPr>
        <p:spPr>
          <a:xfrm>
            <a:off x="8402760" y="2743200"/>
            <a:ext cx="53172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5" name="Picture 16" descr=""/>
          <p:cNvPicPr/>
          <p:nvPr/>
        </p:nvPicPr>
        <p:blipFill>
          <a:blip r:embed="rId3"/>
          <a:srcRect l="22588" t="69708" r="15294" b="12126"/>
          <a:stretch/>
        </p:blipFill>
        <p:spPr>
          <a:xfrm>
            <a:off x="4057560" y="5181480"/>
            <a:ext cx="4876920" cy="887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6" name="Rectangle 2" descr=""/>
          <p:cNvPicPr/>
          <p:nvPr/>
        </p:nvPicPr>
        <p:blipFill>
          <a:blip r:embed="rId1"/>
          <a:stretch/>
        </p:blipFill>
        <p:spPr>
          <a:xfrm>
            <a:off x="208080" y="274680"/>
            <a:ext cx="8478720" cy="1230120"/>
          </a:xfrm>
          <a:prstGeom prst="rect">
            <a:avLst/>
          </a:prstGeom>
          <a:ln w="0">
            <a:noFill/>
          </a:ln>
        </p:spPr>
      </p:pic>
      <p:sp>
        <p:nvSpPr>
          <p:cNvPr id="1497" name=""/>
          <p:cNvSpPr txBox="1"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Discount and Credits</a:t>
            </a: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n the bottom side of the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Receive Payment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window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QuickBooks automatically calculates a suggested discount based on the term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498" name="Picture 6" descr=""/>
          <p:cNvPicPr/>
          <p:nvPr/>
        </p:nvPicPr>
        <p:blipFill>
          <a:blip r:embed="rId2"/>
          <a:stretch/>
        </p:blipFill>
        <p:spPr>
          <a:xfrm>
            <a:off x="998640" y="4343400"/>
            <a:ext cx="7146720" cy="17524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499" name="Oval 9"/>
          <p:cNvSpPr/>
          <p:nvPr/>
        </p:nvSpPr>
        <p:spPr>
          <a:xfrm>
            <a:off x="4038480" y="5181480"/>
            <a:ext cx="1676520" cy="381240"/>
          </a:xfrm>
          <a:prstGeom prst="ellipse">
            <a:avLst/>
          </a:prstGeom>
          <a:noFill/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3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42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rack company sal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t up customer records in the Customer Cent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rack income and expenses by Job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cord Sales Receip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e the Undeposited Funds account to track your cash receip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cord Invoices and Payments from custom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cord bank deposits of cash, check, and credit card receip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0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50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positing Checks and Cash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olding Cash Back from Deposit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inting Deposit Slip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positing Credit Card Payment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2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50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 ensure that your bank reconciliations go smoothly, you should always deposit your checks and cash separately from your credit card paymen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504" name="Picture 4" descr="C:\Users\DPEMBR~1\AppData\Local\Temp\SNAGHTML2b54585.PNG"/>
          <p:cNvPicPr/>
          <p:nvPr/>
        </p:nvPicPr>
        <p:blipFill>
          <a:blip r:embed="rId2"/>
          <a:stretch/>
        </p:blipFill>
        <p:spPr>
          <a:xfrm>
            <a:off x="1447920" y="3886200"/>
            <a:ext cx="624816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5" name="Rectangle 2" descr=""/>
          <p:cNvPicPr/>
          <p:nvPr/>
        </p:nvPicPr>
        <p:blipFill>
          <a:blip r:embed="rId1"/>
          <a:stretch/>
        </p:blipFill>
        <p:spPr>
          <a:xfrm>
            <a:off x="237960" y="274680"/>
            <a:ext cx="8448840" cy="1170000"/>
          </a:xfrm>
          <a:prstGeom prst="rect">
            <a:avLst/>
          </a:prstGeom>
          <a:ln w="0">
            <a:noFill/>
          </a:ln>
        </p:spPr>
      </p:pic>
      <p:sp>
        <p:nvSpPr>
          <p:cNvPr id="150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ll in the bottom part of the deposit slip indicating the account to which you want to post the cash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507" name="Picture 4" descr=""/>
          <p:cNvPicPr/>
          <p:nvPr/>
        </p:nvPicPr>
        <p:blipFill>
          <a:blip r:embed="rId2"/>
          <a:stretch/>
        </p:blipFill>
        <p:spPr>
          <a:xfrm>
            <a:off x="573120" y="3505320"/>
            <a:ext cx="7997760" cy="1752480"/>
          </a:xfrm>
          <a:prstGeom prst="rect">
            <a:avLst/>
          </a:prstGeom>
          <a:ln w="64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8" name="Rectangle 2" descr=""/>
          <p:cNvPicPr/>
          <p:nvPr/>
        </p:nvPicPr>
        <p:blipFill>
          <a:blip r:embed="rId1"/>
          <a:stretch/>
        </p:blipFill>
        <p:spPr>
          <a:xfrm>
            <a:off x="237960" y="274680"/>
            <a:ext cx="8448840" cy="1170000"/>
          </a:xfrm>
          <a:prstGeom prst="rect">
            <a:avLst/>
          </a:prstGeom>
          <a:ln w="0">
            <a:noFill/>
          </a:ln>
        </p:spPr>
      </p:pic>
      <p:sp>
        <p:nvSpPr>
          <p:cNvPr id="150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redit card processing companies can charge discount fees on each credit card deposi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e QuickMath to calculate fee on deposi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510" name="Picture 5" descr="C:\Users\DPEMBR~1\AppData\Local\Temp\SNAGHTML18006d.PNG"/>
          <p:cNvPicPr/>
          <p:nvPr/>
        </p:nvPicPr>
        <p:blipFill>
          <a:blip r:embed="rId2"/>
          <a:stretch/>
        </p:blipFill>
        <p:spPr>
          <a:xfrm>
            <a:off x="282600" y="4572000"/>
            <a:ext cx="8578800" cy="8380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1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51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rack company sal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t up customer records in the Customer Cent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rack income and expenses by Job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cord Sales Receip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e the Undeposited Funds account to track your cash receip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cord Invoices and Payments from custom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cord bank deposits of cash, check, and credit card receip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5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42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ales Receipt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ash customers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voice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redit Customers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oth track detailed inform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7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1428" name="Picture 3" descr="C:\Users\DPEMBR~1\AppData\Local\Temp\SNAGHTML5278502.PNG"/>
          <p:cNvPicPr/>
          <p:nvPr/>
        </p:nvPicPr>
        <p:blipFill>
          <a:blip r:embed="rId2"/>
          <a:stretch/>
        </p:blipFill>
        <p:spPr>
          <a:xfrm>
            <a:off x="1496880" y="1704960"/>
            <a:ext cx="6150240" cy="45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9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1430" name="Picture 3" descr="C:\Users\DPEMBR~1\AppData\Local\Temp\SNAGHTMLf640129.PNG"/>
          <p:cNvPicPr/>
          <p:nvPr/>
        </p:nvPicPr>
        <p:blipFill>
          <a:blip r:embed="rId2"/>
          <a:stretch/>
        </p:blipFill>
        <p:spPr>
          <a:xfrm>
            <a:off x="1469880" y="1576440"/>
            <a:ext cx="6204240" cy="47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1" name=""/>
          <p:cNvGraphicFramePr/>
          <p:nvPr/>
        </p:nvGraphicFramePr>
        <p:xfrm>
          <a:off x="1143000" y="1600200"/>
          <a:ext cx="6705720" cy="4734000"/>
        </p:xfrm>
        <a:graphic>
          <a:graphicData uri="http://schemas.openxmlformats.org/drawingml/2006/table">
            <a:tbl>
              <a:tblPr/>
              <a:tblGrid>
                <a:gridCol w="1230480"/>
                <a:gridCol w="1153800"/>
                <a:gridCol w="1390680"/>
                <a:gridCol w="1082880"/>
                <a:gridCol w="1847880"/>
              </a:tblGrid>
              <a:tr h="54936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ITC Stone Serif Std Medium"/>
                          <a:ea typeface="Arial Unicode MS"/>
                        </a:rPr>
                        <a:t>Business Transa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ITC Stone Serif Std Medium"/>
                          <a:ea typeface="Arial Unicode MS"/>
                        </a:rPr>
                        <a:t>Cash Customers 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ITC Stone Serif Std Medium"/>
                          <a:ea typeface="Arial Unicode MS"/>
                        </a:rPr>
                        <a:t>(Pay by cash, check or credit card at time of sal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ITC Stone Serif Std Medium"/>
                          <a:ea typeface="Arial Unicode MS"/>
                        </a:rPr>
                        <a:t>Credit Customers 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ITC Stone Serif Std Medium"/>
                          <a:ea typeface="Arial Unicode MS"/>
                        </a:rPr>
                        <a:t>(Pay on a date after the sale dat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ITC Stone Serif Std Medium"/>
                          <a:ea typeface="Arial Unicode MS"/>
                        </a:rPr>
                        <a:t>QuickBooks Transa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ITC Stone Serif Std Medium"/>
                          <a:ea typeface="Arial Unicode MS"/>
                        </a:rPr>
                        <a:t>Accounting Ent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ITC Stone Serif Std Medium"/>
                          <a:ea typeface="Arial Unicode MS"/>
                        </a:rPr>
                        <a:t>QuickBooks Transa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ITC Stone Serif Std Medium"/>
                          <a:ea typeface="Arial Unicode MS"/>
                        </a:rPr>
                        <a:t>Accounting Ent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ITC Stone Serif Std Medium"/>
                          <a:ea typeface="Arial Unicode MS"/>
                        </a:rPr>
                        <a:t>Customer Estimate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ITC Stone Serif Std Medium"/>
                          <a:ea typeface="Arial Unicode MS"/>
                        </a:rPr>
                        <a:t>(Optiona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ITC Stone Serif Std Medium"/>
                          <a:ea typeface="Arial Unicode MS"/>
                        </a:rPr>
                        <a:t>Not Usually Us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ITC Stone Serif Std Medium"/>
                          <a:ea typeface="Arial Unicode MS"/>
                        </a:rPr>
                        <a:t>Non-posting entry used to record estimates (bids) for customers or job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ITC Stone Serif Std Medium"/>
                          <a:ea typeface="Arial Unicode MS"/>
                        </a:rPr>
                        <a:t>Customer 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ITC Stone Serif Std Medium"/>
                          <a:ea typeface="Arial Unicode MS"/>
                        </a:rPr>
                        <a:t>Sales Order (Optional)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ITC Stone Serif Std Medium"/>
                          <a:ea typeface="Arial Unicode MS"/>
                        </a:rPr>
                        <a:t>Not Usually Us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ITC Stone Serif Std Medium"/>
                          <a:ea typeface="Arial Unicode MS"/>
                        </a:rPr>
                        <a:t>Non-posting entry used to record customer order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ITC Stone Serif Std Medium"/>
                          <a:ea typeface="Arial Unicode MS"/>
                        </a:rPr>
                        <a:t>Recording a S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ITC Stone Serif Std Medium"/>
                          <a:ea typeface="Arial Unicode MS"/>
                        </a:rPr>
                        <a:t>Increase (debit)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ITC Stone Serif Std Medium"/>
                          <a:ea typeface="Arial Unicode MS"/>
                        </a:rPr>
                        <a:t>Undeposited Funds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ITC Stone Serif Std Medium"/>
                          <a:ea typeface="Arial Unicode MS"/>
                        </a:rPr>
                        <a:t>, increase (credit) </a:t>
                      </a: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ITC Stone Serif Std Medium"/>
                          <a:ea typeface="Arial Unicode MS"/>
                        </a:rPr>
                        <a:t>income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ITC Stone Serif Std Medium"/>
                          <a:ea typeface="Arial Unicode MS"/>
                        </a:rPr>
                        <a:t>account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ITC Stone Serif Std Medium"/>
                          <a:ea typeface="Arial Unicode MS"/>
                        </a:rPr>
                        <a:t>Increase (debit)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ITC Stone Serif Std Medium"/>
                          <a:ea typeface="Arial Unicode MS"/>
                        </a:rPr>
                        <a:t>Accounts Receivabl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ITC Stone Serif Std Medium"/>
                          <a:ea typeface="Arial Unicode MS"/>
                        </a:rPr>
                        <a:t>, increase (credit) </a:t>
                      </a: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ITC Stone Serif Std Medium"/>
                          <a:ea typeface="Arial Unicode MS"/>
                        </a:rPr>
                        <a:t>income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ITC Stone Serif Std Medium"/>
                          <a:ea typeface="Arial Unicode MS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ITC Stone Serif Std Medium"/>
                          <a:ea typeface="Arial Unicode MS"/>
                        </a:rPr>
                        <a:t>account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42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ITC Stone Serif Std Medium"/>
                          <a:ea typeface="Arial Unicode MS"/>
                        </a:rPr>
                        <a:t>Receiving Money in Payment of an Invoi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ITC Stone Serif Std Medium"/>
                          <a:ea typeface="Arial Unicode MS"/>
                        </a:rPr>
                        <a:t>No additional action is required on the sales for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ITC Stone Serif Std Medium"/>
                          <a:ea typeface="Arial Unicode MS"/>
                        </a:rPr>
                        <a:t>Decrease (credit)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ITC Stone Serif Std Medium"/>
                          <a:ea typeface="Arial Unicode MS"/>
                        </a:rPr>
                        <a:t>Accounts Receivabl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ITC Stone Serif Std Medium"/>
                          <a:ea typeface="Arial Unicode MS"/>
                        </a:rPr>
                        <a:t>, increase (debit)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ITC Stone Serif Std Medium"/>
                          <a:ea typeface="Arial Unicode MS"/>
                        </a:rPr>
                        <a:t>Undeposited Funds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ITC Stone Serif Std Medium"/>
                          <a:ea typeface="Arial Unicode MS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ITC Stone Serif Std Medium"/>
                          <a:ea typeface="Arial Unicode MS"/>
                        </a:rPr>
                        <a:t>Depositing Money in the Ban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ITC Stone Serif Std Medium"/>
                          <a:ea typeface="Arial Unicode MS"/>
                        </a:rPr>
                        <a:t>Increase (debit) </a:t>
                      </a: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ITC Stone Serif Std Medium"/>
                          <a:ea typeface="Arial Unicode MS"/>
                        </a:rPr>
                        <a:t>bank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ITC Stone Serif Std Medium"/>
                          <a:ea typeface="Arial Unicode MS"/>
                        </a:rPr>
                        <a:t> Account, decrease (credit)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ITC Stone Serif Std Medium"/>
                          <a:ea typeface="Arial Unicode MS"/>
                        </a:rPr>
                        <a:t>Undeposited Funds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ITC Stone Serif Std Medium"/>
                          <a:ea typeface="Arial Unicode MS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ITC Stone Serif Std Medium"/>
                          <a:ea typeface="Arial Unicode MS"/>
                        </a:rPr>
                        <a:t>Decrease (credit)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ITC Stone Serif Std Medium"/>
                          <a:ea typeface="Arial Unicode MS"/>
                        </a:rPr>
                        <a:t>Undeposited Funds,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ITC Stone Serif Std Medium"/>
                          <a:ea typeface="Arial Unicode MS"/>
                        </a:rPr>
                        <a:t> increase (debit) </a:t>
                      </a: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ITC Stone Serif Std Medium"/>
                          <a:ea typeface="Arial Unicode MS"/>
                        </a:rPr>
                        <a:t>bank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ITC Stone Serif Std Medium"/>
                          <a:ea typeface="Arial Unicode MS"/>
                        </a:rPr>
                        <a:t> Account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32" name="Rectangle 2" descr=""/>
          <p:cNvPicPr/>
          <p:nvPr/>
        </p:nvPicPr>
        <p:blipFill>
          <a:blip r:embed="rId1"/>
          <a:stretch/>
        </p:blipFill>
        <p:spPr>
          <a:xfrm>
            <a:off x="201600" y="152280"/>
            <a:ext cx="8485200" cy="1170000"/>
          </a:xfrm>
          <a:prstGeom prst="rect">
            <a:avLst/>
          </a:prstGeom>
          <a:ln w="0">
            <a:noFill/>
          </a:ln>
        </p:spPr>
      </p:pic>
      <p:sp>
        <p:nvSpPr>
          <p:cNvPr id="1433" name="Rectangle 3"/>
          <p:cNvSpPr/>
          <p:nvPr/>
        </p:nvSpPr>
        <p:spPr>
          <a:xfrm>
            <a:off x="998640" y="1673280"/>
            <a:ext cx="799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4"/>
          <p:cNvSpPr/>
          <p:nvPr/>
        </p:nvSpPr>
        <p:spPr>
          <a:xfrm>
            <a:off x="998640" y="1673280"/>
            <a:ext cx="857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"/>
          <p:cNvSpPr/>
          <p:nvPr/>
        </p:nvSpPr>
        <p:spPr>
          <a:xfrm>
            <a:off x="998640" y="1673280"/>
            <a:ext cx="857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6"/>
          <p:cNvSpPr/>
          <p:nvPr/>
        </p:nvSpPr>
        <p:spPr>
          <a:xfrm>
            <a:off x="998640" y="1673280"/>
            <a:ext cx="799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7"/>
          <p:cNvSpPr/>
          <p:nvPr/>
        </p:nvSpPr>
        <p:spPr>
          <a:xfrm>
            <a:off x="998640" y="1673280"/>
            <a:ext cx="857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70"/>
          <p:cNvSpPr/>
          <p:nvPr/>
        </p:nvSpPr>
        <p:spPr>
          <a:xfrm>
            <a:off x="998640" y="938160"/>
            <a:ext cx="857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75"/>
          <p:cNvSpPr/>
          <p:nvPr/>
        </p:nvSpPr>
        <p:spPr>
          <a:xfrm>
            <a:off x="998640" y="938160"/>
            <a:ext cx="857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79"/>
          <p:cNvSpPr/>
          <p:nvPr/>
        </p:nvSpPr>
        <p:spPr>
          <a:xfrm>
            <a:off x="998640" y="938160"/>
            <a:ext cx="799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82"/>
          <p:cNvSpPr/>
          <p:nvPr/>
        </p:nvSpPr>
        <p:spPr>
          <a:xfrm>
            <a:off x="998640" y="938160"/>
            <a:ext cx="857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87"/>
          <p:cNvSpPr/>
          <p:nvPr/>
        </p:nvSpPr>
        <p:spPr>
          <a:xfrm>
            <a:off x="998640" y="938160"/>
            <a:ext cx="857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91"/>
          <p:cNvSpPr/>
          <p:nvPr/>
        </p:nvSpPr>
        <p:spPr>
          <a:xfrm>
            <a:off x="998640" y="938160"/>
            <a:ext cx="799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94"/>
          <p:cNvSpPr/>
          <p:nvPr/>
        </p:nvSpPr>
        <p:spPr>
          <a:xfrm>
            <a:off x="998640" y="938160"/>
            <a:ext cx="857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5" name="Group 551"/>
          <p:cNvGrpSpPr/>
          <p:nvPr/>
        </p:nvGrpSpPr>
        <p:grpSpPr>
          <a:xfrm>
            <a:off x="2590920" y="2514600"/>
            <a:ext cx="3276000" cy="3657240"/>
            <a:chOff x="2590920" y="2514600"/>
            <a:chExt cx="3276000" cy="3657240"/>
          </a:xfrm>
        </p:grpSpPr>
        <p:pic>
          <p:nvPicPr>
            <p:cNvPr id="1446" name="Picture 335" descr=""/>
            <p:cNvPicPr/>
            <p:nvPr/>
          </p:nvPicPr>
          <p:blipFill>
            <a:blip r:embed="rId2"/>
            <a:stretch/>
          </p:blipFill>
          <p:spPr>
            <a:xfrm>
              <a:off x="5193720" y="2514600"/>
              <a:ext cx="67320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7" name="Picture 334" descr=""/>
            <p:cNvPicPr/>
            <p:nvPr/>
          </p:nvPicPr>
          <p:blipFill>
            <a:blip r:embed="rId3"/>
            <a:stretch/>
          </p:blipFill>
          <p:spPr>
            <a:xfrm>
              <a:off x="5193720" y="3231720"/>
              <a:ext cx="67320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8" name="Picture 333" descr=""/>
            <p:cNvPicPr/>
            <p:nvPr/>
          </p:nvPicPr>
          <p:blipFill>
            <a:blip r:embed="rId4"/>
            <a:stretch/>
          </p:blipFill>
          <p:spPr>
            <a:xfrm>
              <a:off x="2590920" y="4056480"/>
              <a:ext cx="67320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9" name="Picture 332" descr=""/>
            <p:cNvPicPr/>
            <p:nvPr/>
          </p:nvPicPr>
          <p:blipFill>
            <a:blip r:embed="rId5"/>
            <a:stretch/>
          </p:blipFill>
          <p:spPr>
            <a:xfrm>
              <a:off x="5193720" y="4056480"/>
              <a:ext cx="67320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0" name="Picture 331" descr="rec pymts icon"/>
            <p:cNvPicPr/>
            <p:nvPr/>
          </p:nvPicPr>
          <p:blipFill>
            <a:blip r:embed="rId6"/>
            <a:stretch/>
          </p:blipFill>
          <p:spPr>
            <a:xfrm>
              <a:off x="5193720" y="4845240"/>
              <a:ext cx="67320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1" name="Picture 330" descr="depositicon"/>
            <p:cNvPicPr/>
            <p:nvPr/>
          </p:nvPicPr>
          <p:blipFill>
            <a:blip r:embed="rId7"/>
            <a:stretch/>
          </p:blipFill>
          <p:spPr>
            <a:xfrm>
              <a:off x="5193720" y="5562360"/>
              <a:ext cx="67320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2" name="Picture 329" descr="depositicon"/>
            <p:cNvPicPr/>
            <p:nvPr/>
          </p:nvPicPr>
          <p:blipFill>
            <a:blip r:embed="rId8"/>
            <a:stretch/>
          </p:blipFill>
          <p:spPr>
            <a:xfrm>
              <a:off x="2590920" y="5562360"/>
              <a:ext cx="673200" cy="6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53" name="Rectangle 345"/>
          <p:cNvSpPr/>
          <p:nvPr/>
        </p:nvSpPr>
        <p:spPr>
          <a:xfrm>
            <a:off x="957240" y="639720"/>
            <a:ext cx="857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350"/>
          <p:cNvSpPr/>
          <p:nvPr/>
        </p:nvSpPr>
        <p:spPr>
          <a:xfrm>
            <a:off x="957240" y="639720"/>
            <a:ext cx="857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354"/>
          <p:cNvSpPr/>
          <p:nvPr/>
        </p:nvSpPr>
        <p:spPr>
          <a:xfrm>
            <a:off x="957240" y="639720"/>
            <a:ext cx="914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357"/>
          <p:cNvSpPr/>
          <p:nvPr/>
        </p:nvSpPr>
        <p:spPr>
          <a:xfrm>
            <a:off x="957240" y="639720"/>
            <a:ext cx="857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362"/>
          <p:cNvSpPr/>
          <p:nvPr/>
        </p:nvSpPr>
        <p:spPr>
          <a:xfrm>
            <a:off x="957240" y="639720"/>
            <a:ext cx="857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366"/>
          <p:cNvSpPr/>
          <p:nvPr/>
        </p:nvSpPr>
        <p:spPr>
          <a:xfrm>
            <a:off x="957240" y="639720"/>
            <a:ext cx="914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369"/>
          <p:cNvSpPr/>
          <p:nvPr/>
        </p:nvSpPr>
        <p:spPr>
          <a:xfrm>
            <a:off x="957240" y="639720"/>
            <a:ext cx="857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0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461" name=""/>
          <p:cNvSpPr txBox="1"/>
          <p:nvPr/>
        </p:nvSpPr>
        <p:spPr>
          <a:xfrm>
            <a:off x="456840" y="1646280"/>
            <a:ext cx="396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ustomer Cent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Open from the Icon bar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tup Inf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462" name="Picture 4" descr="C:\Users\DPEMBR~1\AppData\Local\Temp\SNAGHTML5445ff5.PNG"/>
          <p:cNvPicPr/>
          <p:nvPr/>
        </p:nvPicPr>
        <p:blipFill>
          <a:blip r:embed="rId2"/>
          <a:stretch/>
        </p:blipFill>
        <p:spPr>
          <a:xfrm>
            <a:off x="4111560" y="1371600"/>
            <a:ext cx="46800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3" name="Rectangle 2" descr=""/>
          <p:cNvPicPr/>
          <p:nvPr/>
        </p:nvPicPr>
        <p:blipFill>
          <a:blip r:embed="rId1"/>
          <a:stretch/>
        </p:blipFill>
        <p:spPr>
          <a:xfrm>
            <a:off x="208080" y="274680"/>
            <a:ext cx="8478720" cy="1230120"/>
          </a:xfrm>
          <a:prstGeom prst="rect">
            <a:avLst/>
          </a:prstGeom>
          <a:ln w="0">
            <a:noFill/>
          </a:ln>
        </p:spPr>
      </p:pic>
      <p:sp>
        <p:nvSpPr>
          <p:cNvPr id="146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ultiple jobs for each customer QuickBooks tracks jobs in addition to custom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elps track income and expenses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elp with reporting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ustomer:Job – separated by col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.g.: Cruz, Maria:Branch Opening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5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466" name=""/>
          <p:cNvSpPr txBox="1"/>
          <p:nvPr/>
        </p:nvSpPr>
        <p:spPr>
          <a:xfrm>
            <a:off x="456840" y="1676520"/>
            <a:ext cx="2895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Use when customers pay at the time of the sale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Customers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menu &gt;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Enter Sales Receipt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Sans Unicode"/>
              </a:rPr>
              <a:t>History Pan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467" name="Picture 4" descr="C:\Users\DPEMBR~1\AppData\Local\Temp\SNAGHTMLf7f78a9.PNG"/>
          <p:cNvPicPr/>
          <p:nvPr/>
        </p:nvPicPr>
        <p:blipFill>
          <a:blip r:embed="rId2"/>
          <a:stretch/>
        </p:blipFill>
        <p:spPr>
          <a:xfrm>
            <a:off x="3048120" y="1752480"/>
            <a:ext cx="5800680" cy="32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8T17:25:39Z</dcterms:created>
  <dc:creator>The Sleeter Group, Inc.</dc:creator>
  <dc:description/>
  <dc:language>en-US</dc:language>
  <cp:lastModifiedBy>Deborah Pembrook</cp:lastModifiedBy>
  <dcterms:modified xsi:type="dcterms:W3CDTF">2011-12-09T04:39:01Z</dcterms:modified>
  <cp:revision>209</cp:revision>
  <dc:subject/>
  <dc:title>Chapter 2 Managing Revenue</dc:title>
</cp:coreProperties>
</file>